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3EC5-B565-4E64-AD01-7254DB36C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0928-4EAA-4847-A9B2-0463D5D69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723-8251-4E23-8DEC-B12A92842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E463-C443-47C0-A50E-5D48CC2F8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79A5-4513-4617-8C0A-48A5E0AE1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F4E-E38F-4FDA-9CAF-FF74E70A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E92-1324-4427-96A9-AC07DD49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403-F63B-4DA6-A753-9113FDC9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C27-DBE8-4D58-95AA-755F834C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5DE1-DE6E-49BB-832B-B4360616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67E1-7B40-457E-BF6B-319C9A10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83D-933B-4F91-B312-0476DCD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48D1-D3A8-4750-AE9C-3262EF35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AAEC-E152-44D8-A9B1-E7B279B4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5C96-1A8F-4257-98F0-1105872D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7361-CE06-43E8-B59C-3E40018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01F-E086-4DA2-93FF-917BC438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DED1-A347-422D-9B63-6101282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9F4-FCA4-4F0B-8A7A-5299AC5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8068-58F4-4B96-A486-B741CF6F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7958-7ADC-4CEB-871C-4AAFE2C5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6357-D366-4337-93A9-773EA22E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3CED-52A4-4096-B131-B59B0A7C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4824-5F59-4F73-93AC-D791A0E8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01AB-A526-468B-A100-11AAD88B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20D2-B1C9-4D49-96B6-E68E4FAC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301D-6C7E-4E00-8D2D-C154ACFA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1D7-D772-4E34-A1F0-96AD245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CD17-55F7-4836-8DDA-5E08F873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20E2-5683-46B4-835B-1D2751DF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3370-8D41-4383-AD4F-08BD32C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D3A4-4975-4C26-B27B-9C58B20D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615B-FDF5-4BA6-815E-2B5D29EB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2E2D-E84C-47BD-A053-FD4D9346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9E40-7846-4454-A538-E4115AF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9183B-9B1A-4FCA-B75C-E5877D87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F726-40AC-4703-96E2-33A14A0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ED4B-B042-40EB-85FC-694BFED3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B2C-3DAE-4700-A1BC-A1405D9E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99C6-5576-46FC-AACB-6CB931C5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AAB8-36C3-4C33-B685-BBF39D85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D286F-CFBA-4356-8472-7EB50777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C88C-DD61-44E9-8690-A02361E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ABEF-AA28-4AA8-9239-FB498C4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39E55-6C2C-4765-9DC3-BBDFCB6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E65F-C49A-4595-9028-93BA42BC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0EF8E-51FA-4F41-93D3-45F49EAD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B199-CD8C-4993-BF72-2B03B336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0ECD-30A2-4684-8351-24C0D167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609-A5D6-49AC-A28D-BA33F8AF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7DCA-E9F9-4FE0-B58A-BEB6C2B8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7F6FF-5A9F-430E-B4F0-5BA10F5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3F2DC-7036-455C-97E1-35E335AD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5952-6198-4114-9EA5-4F0749E1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F554-DDB4-44B8-84B3-C57EAA39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2C316-EF8C-49FA-9EFB-AE9E963D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ED79-3EF3-4950-B890-6903652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C280-97A9-4212-AE13-B0D4459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3892-8E9C-435A-8180-AFBF840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D091-067A-4AD7-87B3-657C7478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1C9-B8CB-4904-8A1A-BA8B17C5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1F46-DDD8-42E2-A344-64C7C033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2B1-1C95-4807-8AA6-9AE5336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AD3-D0A5-4C9C-A109-83A9547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EE1-157C-4C36-9A45-47C497B7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72AE-0673-498D-AE58-51B1A3658B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B293-4AB9-4440-BB93-F1C07CA415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31AD-9083-4A25-A576-6C03F10D1B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DBA0-46CC-4FCA-8AC7-DDDBB74671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E44-88EF-4A3A-9F85-C0AC97B8AB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bysoft.com/essays/userInterfaceDesign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r Interface Desig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133720" y="6172200"/>
            <a:ext cx="5410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ambysoft.com/essays/userInterfaceDesign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Tip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consist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nav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color sparing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ign fiel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ow for erro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uitiv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void overcrow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Design Princip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ucture: the overall UI archite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icity: Make tasks easy to 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ibility: Keep all needed tasks visi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eedback: Keep the user inform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lerance: allow undoing and redo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\\thor\grads\mshouman\Desktop\Drawing1.jpg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20:11:14Z</dcterms:created>
  <dc:creator>mshouman</dc:creator>
  <dc:description/>
  <dc:language>en-US</dc:language>
  <cp:lastModifiedBy>mshouman</cp:lastModifiedBy>
  <dcterms:modified xsi:type="dcterms:W3CDTF">2009-04-06T20:20:36Z</dcterms:modified>
  <cp:revision>2</cp:revision>
  <dc:subject/>
  <dc:title>User Interface Design</dc:title>
</cp:coreProperties>
</file>